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D51-8FDB-455C-ACCF-F2AE9442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54E-E477-4D32-B98E-AC915F9A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822-D192-43DE-8C4D-656593E0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DFE-2D49-4DA7-A597-51CC3C3D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5E70-E6FF-4CCB-996B-3ED1FD10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CFE7-5690-4755-9E71-5D21CD8A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64BC-AB65-4B99-A03F-14A4E583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509D-5ED2-470B-BE9B-685CCF1F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6D1D-5F08-4F53-9E5F-764ABF81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FFE2-7AE5-4014-AD1B-F7BEC760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0E65-4B9C-4B12-9BB0-C9CA21ED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310-DCE0-432B-A537-57714CA1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A13E-4FBA-4229-AF81-F3F0A53C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23F4-8583-401A-8AF1-D21EA3CA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CFB7-6EE2-49B9-93E8-1B09816D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82B9-3971-469A-ACC7-91BF41C4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E196-DFBE-4611-A5BC-485D4FC9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76F-9AB1-4922-B2E7-F1EB79BA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6AA-8DBA-4718-A109-FB7BC982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330-C94E-4A93-B65E-5450E526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817-6C9F-46C5-8BC9-17CCF31C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986-B1F4-47F3-904E-25F61766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0CC-D995-4065-BA34-63401EB5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2EE-F8DC-4FBD-A5F5-9800550F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77D4-6C16-4AAE-8BFC-9DBBABA75852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" name=""/>
          <p:cNvSpPr/>
          <p:nvPr/>
        </p:nvSpPr>
        <p:spPr>
          <a:xfrm>
            <a:off x="8172360" y="623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37BF-428A-4A8E-82F1-1A703A49EE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8E10-0BF9-4164-9EE9-57475F3F26DB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BarCode%20&#956;&#949;&#964;&#945;&#964;&#961;&#959;&#960;&#941;&#945;&#962;.xls" TargetMode="External"/><Relationship Id="rId2" Type="http://schemas.openxmlformats.org/officeDocument/2006/relationships/hyperlink" Target="file:///BarCode%20&#956;&#949;&#964;&#945;&#964;&#961;&#959;&#960;&#941;&#945;&#962;.xls" TargetMode="External"/><Relationship Id="rId3" Type="http://schemas.openxmlformats.org/officeDocument/2006/relationships/hyperlink" Target="file:///BarCode%20&#956;&#949;&#964;&#945;&#964;&#961;&#959;&#960;&#941;&#945;&#962;.xls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941;&#955;&#949;&#947;&#967;&#959;&#962;%20&#964;&#949;&#955;&#949;&#965;&#964;&#945;&#943;&#959;&#965;%20&#968;&#951;&#966;&#943;&#959;&#965;.xls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Java%20Linear%20Barcode%20Applet.htm" TargetMode="External"/><Relationship Id="rId2" Type="http://schemas.openxmlformats.org/officeDocument/2006/relationships/hyperlink" Target="file:///Java%20Linear%20Barcode%20Applet.h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6080" y="1628280"/>
            <a:ext cx="6781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0033cc"/>
                </a:solidFill>
                <a:latin typeface="Arial"/>
              </a:rPr>
              <a:t>Ο 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BarCode 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50560" y="2924280"/>
            <a:ext cx="676908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ια πρόταση για ένα μαθητικ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cc"/>
                </a:solidFill>
                <a:latin typeface="Arial"/>
              </a:rPr>
              <a:t>Μουρούζης Πάνο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cc"/>
                </a:solidFill>
                <a:latin typeface="Arial"/>
              </a:rPr>
              <a:t>Φυσικός Ρ/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cc"/>
                </a:solidFill>
                <a:latin typeface="Arial"/>
              </a:rPr>
              <a:t>Υπεύθυνος Ε.Κ.Φ.Ε Κέρκυρ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ShockwaveFlash1"/>
          <p:cNvGraphicFramePr/>
          <p:nvPr/>
        </p:nvGraphicFramePr>
        <p:xfrm>
          <a:off x="7380360" y="1413000"/>
          <a:ext cx="13683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1413000"/>
                    <a:ext cx="1368360" cy="122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TO EXCEL </a:t>
            </a:r>
            <a:r>
              <a:rPr b="1" lang="el-GR" sz="3900" spc="-1" strike="noStrike">
                <a:solidFill>
                  <a:srgbClr val="0033cc"/>
                </a:solidFill>
                <a:latin typeface="Arial"/>
              </a:rPr>
              <a:t>ΣΕ ΔΡΑΣΗ</a:t>
            </a: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Η κωδικοποίησ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Η αποκωδικοποίησ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Και η διαδικασία της μετατροπή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46800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Η κατασκευή μας</a:t>
            </a: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598920" cy="4317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211640" y="1698480"/>
            <a:ext cx="35989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Προτάσεις</a:t>
            </a: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νεργοποίηση στην πράξη του νόμου περί ανάθεσης ομαδικών εργασιώ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ιαγωνισμός – εκδηλώση παρουσίασης των εργασιώ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μφαση στο περιεχόμενο και όχι στο περίβλημα. Χρήση των Τ.Π.Ε ως εργαλείο και όχι ως πανάκεια των εκπαιδευτικών προβλημάτω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νάδειξη των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Τ.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147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Τι μπορούμε και τι δεν μπορούμε…</a:t>
            </a: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Μπορούμε να απαντήσουμε στο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Τ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πρέπει να διδάξουμ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Μπορούμε να απαντήσουμε στο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ΓΙΑΤ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πρέπει να το διδάξουμ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Αλλά δεν μπορούμε να απαντήσουμε στο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ΠΩ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πρέπει να το διδάξουμ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2a1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2a1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2a1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Τα προσόντα ενός καλού Δασκάλου</a:t>
            </a: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Γνώση του αντικειμέ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Αγάπη για το αντικείμεν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Δυνατότητα επικοινωνί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558972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Σας ευχαριστώ για την προσοχή σ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2a1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2a1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2a1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Μερικά προβλήματα των Φ.Ε</a:t>
            </a: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υπάρχει σύνδεση με την τεχνολογ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τεχνολογία διδάσκεται ως ξεχωριστό μάθημ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ο Π.Σ αλλά και το Π.Ι κάνουν ότι μπορούν προς αυτή την κατεύθυν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εν χρησιμοποιούνται για τη λύση των καθημερινών προβλημάτ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υπάρχει συντονισμός με τη διδασκαλία των μαθηματικών αλλά και της πληροφορική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υπάρχει διαθεματικότητα, δηλαδή σύνδεση με άλλα μαθήμα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τονίζεται ο πειραματικός χαρακτήρας των Φ.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15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0033cc"/>
                </a:solidFill>
                <a:latin typeface="Arial"/>
              </a:rPr>
              <a:t>Γιατί ο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BarCode</a:t>
            </a: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Υπάρχει σχεδόν παντού γύρω 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 βασίζεται σε γνώσεις της πληροφορικής των μαθηματικών και της φυσική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 εμπεριέχει ένα μικρό κατασκευαστικό μέρος αλλά και χρήση του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 απαιτεί άντληση πληροφοριών μέσ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 προάγει την ομαδική εργασί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fill="hold"/>
                                  <p:tgtEl>
                                    <p:spTgt spid="1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0033cc"/>
                </a:solidFill>
                <a:latin typeface="Arial"/>
              </a:rPr>
              <a:t>Πως λειτουργεί ο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BarCode</a:t>
            </a: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60164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Η φλυαρία σημαίνει ασφάλεια</a:t>
            </a: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628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ε 7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χουμε 128 συνδυασμούς που εμείς χρησιμοποιούμε τους 20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ε κάθε συνδυασμό εναλλάσσεται το 0 με το 1 ακριβώς 4 φορέ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την πρώτη ομάδα τα 0 είναι 3 ή 5 ενώ για την δεύτερη 2 ή 4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πρώτη ομάδα αρχίζει από 0 ενώ η δεύτερη από 1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ι δύο ομάδες έχουν σχέση θετικού αρνητικ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Το τελευταίο ψηφίο ελέγχου</a:t>
            </a: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 κώδικα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N-8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χρησιμοποιεί 7 αριθμούς. Ο τελευταίος αριθμός προκύπτει αυτόματα μέσω ενός περίεργου κώδικα και χρησιμοποιείται ως </a:t>
            </a:r>
            <a:r>
              <a:rPr b="0" lang="el-GR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στοιχείο ελέγχου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0033cc"/>
                </a:solidFill>
                <a:latin typeface="Arial"/>
              </a:rPr>
              <a:t>Ο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BarCode </a:t>
            </a:r>
            <a:r>
              <a:rPr b="1" lang="el-GR" sz="3900" spc="-1" strike="noStrike">
                <a:solidFill>
                  <a:srgbClr val="0033cc"/>
                </a:solidFill>
                <a:latin typeface="Arial"/>
              </a:rPr>
              <a:t>στην πράξη</a:t>
            </a: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ΔΗΜΙΟΥΡΓΙΑ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BAR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Ο δικός μας κώδικας</a:t>
            </a: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πρακτικούς αλλά και εκπαιδευτικούς λόγους χρησιμοποιήσαμε τη μετατροπή ενός δεκαδικού σε δυαδικό και αντίστροφα χωρίς τη δυνατότητα ελέγχο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Χρησιμοποιήσαμε 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te=8bit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άρα τη δυνατότητα μετάδοσης 256 συμβόλ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Χρησιμοποιήσαμε τις δυνατότητες της γλώσσας προγραμματισμού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ba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υ 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c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40000" y="404640"/>
            <a:ext cx="5113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0033cc"/>
                </a:solidFill>
                <a:latin typeface="Arial"/>
              </a:rPr>
              <a:t>Ο ΠΙΝΑΚΑΣ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ANSI</a:t>
            </a:r>
            <a:endParaRPr b="1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05:59:38Z</dcterms:created>
  <dc:creator>ΜΟΥΡΟΥΖΗΣ ΠΑΝΑΓΙΩΤΗΣ</dc:creator>
  <dc:description/>
  <dc:language>en-US</dc:language>
  <cp:lastModifiedBy>ΜΟΥΡΟΥΖΗΣ ΠΑΝΑΓΙΩΤΗΣ</cp:lastModifiedBy>
  <dcterms:modified xsi:type="dcterms:W3CDTF">2010-04-10T05:16:22Z</dcterms:modified>
  <cp:revision>15</cp:revision>
  <dc:subject/>
  <dc:title>Ο BarCode </dc:title>
</cp:coreProperties>
</file>